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8" idx="3"/>
            <a:endCxn id="102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eicherplatz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8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tlee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pei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2880" y="5493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hromb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3"/>
            <a:endCxn id="10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stCxn id="107" idx="3"/>
            <a:endCxn id="11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ation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generativ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47520" y="5493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9360" y="549360"/>
            <a:ext cx="57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nkontrollierte 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3"/>
            <a:endCxn id="11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egakaryozyten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lee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tlee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Mil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tlee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nochenma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3" name=""/>
          <p:cNvCxnSpPr>
            <a:stCxn id="119" idx="3"/>
            <a:endCxn id="12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993600" y="5493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hrombozyt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ntleerung der Spei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3"/>
            <a:endCxn id="12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lee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Mil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4520" y="549360"/>
            <a:ext cx="67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tleerung der Speicher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tleerung der Mil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3400" y="549360"/>
            <a:ext cx="83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ombozytose &gt; Entleerung der Speicher &gt; Entleerung der Milz &gt; Ein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1" idx="3"/>
            <a:endCxn id="13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7" idx="3"/>
            <a:endCxn id="13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lee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chenma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incrist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5560" y="549360"/>
            <a:ext cx="67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ombozytose &gt; Entleerung der Speicher &gt; Entlee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nochenma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2" idx="3"/>
            <a:endCxn id="143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icherplatz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a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plenekto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640" y="5493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Thrombozytose &gt; Speicherplatz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8:39:26Z</dcterms:modified>
  <cp:revision>327</cp:revision>
  <dc:subject/>
  <dc:title>Vorstellung einer Neuheit</dc:title>
</cp:coreProperties>
</file>